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A990-4631-4F64-8BBF-09A44DE13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12D3-BDFD-44D6-959A-0057AB0B9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86A0-A1B8-4D46-AD16-C90661529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39A7-BFD0-4C17-A917-D6BECC596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2FF87-87C0-40CA-B727-231AC6B7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3D056-2EAD-400F-8C15-918BDDE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822B4-2B70-4572-B39C-232A89C1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329EF-44EC-4D9F-A685-B2F321DC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7E9B2-0D6B-4AE1-B279-83D0D3C2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EB02C-5D30-4B8E-BE7B-CB37E9AD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D4A91-85E0-457A-B244-F6279FA1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38D0-A172-4780-B002-C27073892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2DAA1-869A-4D38-A7B1-BF5E0620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E5BE1-D457-4967-A9E4-C09C18F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1F244-EFF9-4519-9FEB-0BD5EB81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C22BD-E943-42C8-909C-8CE498A6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35B9-4E09-41A2-8653-E662E80C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CD27-241B-4A3E-AE88-5A4A8D492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CBD5-1E3F-42CF-B253-A8EFC9DD5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A629-850A-4DF0-8E89-B4280A3FB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868A-2224-47CF-9C6F-8C9722828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86E3-B39C-4F00-B985-085F9EB43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0BFB-0E44-4B7A-A59F-66F3F0AB9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9CA2-20C0-42D2-BEE5-360BE5944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A49B-2899-461B-94A5-D1370D372E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8C5B-E8B1-443C-968C-F66B613744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XTCGKkpWmU" TargetMode="External"/><Relationship Id="rId2" Type="http://schemas.openxmlformats.org/officeDocument/2006/relationships/hyperlink" Target="http://www.youtube.com/watch?v=KXOkNOoVFJ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B9D5-8648-4535-B714-26C4CC78C9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mall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yourselves with those who worked with student samples from the sam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FFD-2E0B-4FC3-8BAB-FE537480DD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arge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your chart paper or spread out on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gallery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following focus questions during your gallery wal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o you have any insights that you would like to share with the whole grou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s this (or any part of this) like something you have used in the classroom?  Particularly in relation to misconceptions with fraction concep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A593-9A96-42A2-AFF2-B49318B774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en Ways to Assess Without Putting a Mark on Pa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etting and Using Criteri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Kathleen Gregory, Caren Cameron, Anne Davies, Connections Publishing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D17-7C46-4E36-94D3-FAB2288682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, I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mp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of, Les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.B. (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ecific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ing Acr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DDA6-016B-40E7-BCB5-A10AA4ECBC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think about what you’ve heard, discussed, and done during the plenary and breakout session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 idea, a comment, or a strategy, that caught your attentio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3F5C-DB96-4F70-95B4-5B81B179B8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/enhance their giving of descriptive feedback through examination of student work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n their understanding of fraction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FE9C-83A4-43AB-A134-B6B43CD6A3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9BC-AF66-487B-AD5A-A921590152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cing With the Stars - Best Judges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erican Idol - Taylor Hicks' Au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5979-DDDA-4A2F-9A30-A69D57A0A5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066680"/>
          <a:ext cx="8458200" cy="426744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  <a:gridCol w="2133360"/>
                <a:gridCol w="2286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ivational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tiv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tell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ask”)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27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ake the learner feel go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encourage and support the learn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 “Good work”, “Much improved”, “Very creativ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easure student achievement with a score or gr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summariz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73%”, “Level 2”, “Needs Improvement-Satisfactory-Good-Excellent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improv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ll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the learner what needs to be improv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gives specific guidance as to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Your equations are correct.  Remember to use proper problem solving format.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for students to internalize the feedba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k questions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which will prompt the learner to independently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I can see your pattern works for the 2 examples you have given.  Will it work for all values of n?  How would you prove this?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ocus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“better” than others?  How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Are certain types of feedback more appropriate for certain types of tasks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B3A-F307-412C-882F-31869083AD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9880" y="1371600"/>
          <a:ext cx="8040600" cy="4044960"/>
        </p:xfrm>
        <a:graphic>
          <a:graphicData uri="http://schemas.openxmlformats.org/drawingml/2006/table">
            <a:tbl>
              <a:tblPr/>
              <a:tblGrid>
                <a:gridCol w="1865520"/>
                <a:gridCol w="1866600"/>
                <a:gridCol w="218880"/>
                <a:gridCol w="1845000"/>
                <a:gridCol w="2244600"/>
              </a:tblGrid>
              <a:tr h="86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atio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“tell”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“ask”) 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7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motiv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evalu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primarily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l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the student how to correct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k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student what to do to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32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to encourage and support the lear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sure student achievement with a score or a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 by indicating to the student what needs to be 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, by moving student reasoning to the next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4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cxnSp>
        <p:nvCxnSpPr>
          <p:cNvPr id="109" name="Straight Arrow Connector 8"/>
          <p:cNvCxnSpPr/>
          <p:nvPr/>
        </p:nvCxnSpPr>
        <p:spPr>
          <a:xfrm>
            <a:off x="2057040" y="5103360"/>
            <a:ext cx="5258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s – 5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 assignment, Jaime received the following sc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A:            Section B:            Tot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ie was confused, because using what she knew about fractions, she didn’t think that              .  How  would you explain this to Ja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Show what you know about        and       .  Use different representations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Give a real life example of a problem where the solution could involve dividing by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What do you know about          ?  Use diagrams, numbers, algebra, words, etc.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Create a sentence that makes sense that includes ALL of these words and numbers:  improper, fraction, simple, challenging,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4964-AD54-42BB-8147-8367A33A11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F0A6-031F-4DAE-9A91-D6DF1EDAB2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2565360" y="1523880"/>
                <a:ext cx="177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268360" y="3600360"/>
                <a:ext cx="169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3743280" y="3809880"/>
                <a:ext cx="4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2610000" y="16765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2743200" y="2197080"/>
                <a:ext cx="698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3962520" y="2743200"/>
                <a:ext cx="317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4343400" y="1523880"/>
                <a:ext cx="1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5707080" y="1523880"/>
                <a:ext cx="23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4876920" y="2751120"/>
                <a:ext cx="3045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5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, 2, or 3 samples of student work fo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a partner to analyze the student thinking and write descriptive feedback using a 4-colour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F7C7-A8B3-4018-B030-2ECF9E3FB6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4-Colour Strateg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and paste the sample in the middle of a piece of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4 different colours of ma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the following around the s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the student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know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knowledge/understanding seems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gi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you might ask the student to expose or evoke think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a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escriptive feedback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ent might look like on the student work based on the above think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4AB7-9311-4246-AC59-7FC39EB20A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5T18:51:59Z</dcterms:modified>
  <cp:revision>28</cp:revision>
  <dc:subject/>
  <dc:title>&lt;Title&gt;</dc:title>
</cp:coreProperties>
</file>